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FC4-D7D6-460A-934C-C87E970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C0A-5603-4E0F-B537-22D9C29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19A-4B52-4670-9576-1D4CC273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501-9F2F-45F7-B3DB-AB96B6D5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BE2-954E-4789-96B8-04B9D77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D91-64B1-4FBE-AD00-4D6A9459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27E-E1FD-4F6B-9A6F-F2DD06B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108-85FE-40D8-A6B5-28EA38E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E20-7FA6-439D-95BF-459579A0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A0D-F88A-441B-B124-485E655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B18-E3A2-40F8-8038-F956111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703-FC2C-4F5C-93D3-F07541F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885-B1E0-4D8A-BB3C-65BC266F322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losione 2 5"/>
          <p:cNvSpPr/>
          <p:nvPr/>
        </p:nvSpPr>
        <p:spPr>
          <a:xfrm>
            <a:off x="0" y="0"/>
            <a:ext cx="6875640" cy="479736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ttangolo 3" descr=""/>
          <p:cNvPicPr/>
          <p:nvPr/>
        </p:nvPicPr>
        <p:blipFill>
          <a:blip r:embed="rId1"/>
          <a:stretch/>
        </p:blipFill>
        <p:spPr>
          <a:xfrm>
            <a:off x="590400" y="433440"/>
            <a:ext cx="4548240" cy="337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comune.prato.it/servcom/gare/common/img/tromba.gif"/>
          <p:cNvPicPr/>
          <p:nvPr/>
        </p:nvPicPr>
        <p:blipFill>
          <a:blip r:embed="rId2"/>
          <a:stretch/>
        </p:blipFill>
        <p:spPr>
          <a:xfrm>
            <a:off x="5796000" y="2133720"/>
            <a:ext cx="309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tile.it/fnts/stile/immagini/300x300/notemusicali.jpg"/>
          <p:cNvPicPr/>
          <p:nvPr/>
        </p:nvPicPr>
        <p:blipFill>
          <a:blip r:embed="rId1"/>
          <a:stretch/>
        </p:blipFill>
        <p:spPr>
          <a:xfrm>
            <a:off x="611280" y="0"/>
            <a:ext cx="6553080" cy="270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stile.it/fnts/stile/immagini/300x300/note.jpg"/>
          <p:cNvPicPr/>
          <p:nvPr/>
        </p:nvPicPr>
        <p:blipFill>
          <a:blip r:embed="rId2"/>
          <a:stretch/>
        </p:blipFill>
        <p:spPr>
          <a:xfrm rot="477000">
            <a:off x="4406760" y="3433320"/>
            <a:ext cx="4542120" cy="3124440"/>
          </a:xfrm>
          <a:prstGeom prst="rect">
            <a:avLst/>
          </a:prstGeom>
          <a:ln w="0">
            <a:noFill/>
          </a:ln>
        </p:spPr>
      </p:pic>
      <p:pic>
        <p:nvPicPr>
          <p:cNvPr id="46" name="Rettangolo 3" descr=""/>
          <p:cNvPicPr/>
          <p:nvPr/>
        </p:nvPicPr>
        <p:blipFill>
          <a:blip r:embed="rId3"/>
          <a:stretch/>
        </p:blipFill>
        <p:spPr>
          <a:xfrm>
            <a:off x="1463760" y="1279440"/>
            <a:ext cx="5394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farm4.static.flickr.com/3165/2925644609_420c94bd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1294600">
            <a:off x="762120" y="35676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Vi è mai capitato di gettare un sassolino nell’acqua, per esempio quando siete al m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Dal punto in cui il sassolino colpisce l’acqua, possiamo notare il formarsi di increspature concentriche che chiamiamo 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tatic.blogo.it/ecoblog/ram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3"/>
          <p:cNvSpPr/>
          <p:nvPr/>
        </p:nvSpPr>
        <p:spPr>
          <a:xfrm>
            <a:off x="468360" y="5493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Una cosa simile possiamo vederla se sull'acqua galleggia un pezzetto di legno: al passaggio delle onde,si alza e si abbassa ma non si allontana dal posto in cui si tro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t0.gstatic.com/images?q=tbn:ANd9GcTTXnA78iuqNfuzFqDVMxkwGAw4o_rzJBodBCDayCKwI9Ker4OV&amp;t=1"/>
          <p:cNvPicPr/>
          <p:nvPr/>
        </p:nvPicPr>
        <p:blipFill>
          <a:blip r:embed="rId2"/>
          <a:stretch/>
        </p:blipFill>
        <p:spPr>
          <a:xfrm rot="21156600">
            <a:off x="366840" y="4120920"/>
            <a:ext cx="72684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Rettangolo 6"/>
          <p:cNvSpPr/>
          <p:nvPr/>
        </p:nvSpPr>
        <p:spPr>
          <a:xfrm>
            <a:off x="1116000" y="504180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la propagazione delle onde avviene infatti senza che le particelle d'acqua facciano uno spostamento orizzontale ma solo verticale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http://www.mammaebambini.it/wp-content/uploads/2009/07/disegno-da-colorare-2.jpg"/>
          <p:cNvPicPr/>
          <p:nvPr/>
        </p:nvPicPr>
        <p:blipFill>
          <a:blip r:embed="rId1"/>
          <a:stretch/>
        </p:blipFill>
        <p:spPr>
          <a:xfrm rot="20779200">
            <a:off x="393840" y="444600"/>
            <a:ext cx="2603520" cy="3646440"/>
          </a:xfrm>
          <a:prstGeom prst="rect">
            <a:avLst/>
          </a:prstGeom>
          <a:ln w="0">
            <a:noFill/>
          </a:ln>
        </p:spPr>
      </p:pic>
      <p:sp>
        <p:nvSpPr>
          <p:cNvPr id="54" name="Rettangolo 3"/>
          <p:cNvSpPr/>
          <p:nvPr/>
        </p:nvSpPr>
        <p:spPr>
          <a:xfrm>
            <a:off x="2771640" y="1197000"/>
            <a:ext cx="53103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cosa di simile avviene nell'aria quando è colpita da una vibrazione emessa da una sorgente son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suoni si possono diffondere anche  nei solidi e nei liqui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Vediamo un po’ di cosa si trat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arpnet.it/scacchi/ep85-86/esclamativo.gif"/>
          <p:cNvPicPr/>
          <p:nvPr/>
        </p:nvPicPr>
        <p:blipFill>
          <a:blip r:embed="rId2"/>
          <a:stretch/>
        </p:blipFill>
        <p:spPr>
          <a:xfrm rot="346200">
            <a:off x="7508880" y="3462480"/>
            <a:ext cx="79056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arpnet.it/scacchi/ep85-86/esclamativo.gif"/>
          <p:cNvPicPr/>
          <p:nvPr/>
        </p:nvPicPr>
        <p:blipFill>
          <a:blip r:embed="rId3"/>
          <a:stretch/>
        </p:blipFill>
        <p:spPr>
          <a:xfrm rot="394200">
            <a:off x="8206920" y="3681000"/>
            <a:ext cx="790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4.bp.blogspot.com/-O0zXF5ky_Sk/TV-Fe7GzoOI/AAAAAAAAAUo/WSVk4sqZo04/s320/tockins.gif"/>
          <p:cNvPicPr/>
          <p:nvPr/>
        </p:nvPicPr>
        <p:blipFill>
          <a:blip r:embed="rId1"/>
          <a:stretch/>
        </p:blipFill>
        <p:spPr>
          <a:xfrm>
            <a:off x="395280" y="2349360"/>
            <a:ext cx="3260880" cy="4295880"/>
          </a:xfrm>
          <a:prstGeom prst="rect">
            <a:avLst/>
          </a:prstGeom>
          <a:ln w="0">
            <a:noFill/>
          </a:ln>
        </p:spPr>
      </p:pic>
      <p:pic>
        <p:nvPicPr>
          <p:cNvPr id="58" name="Rettangolo 3" descr=""/>
          <p:cNvPicPr/>
          <p:nvPr/>
        </p:nvPicPr>
        <p:blipFill>
          <a:blip r:embed="rId2"/>
          <a:stretch/>
        </p:blipFill>
        <p:spPr>
          <a:xfrm>
            <a:off x="1103400" y="-506520"/>
            <a:ext cx="5145120" cy="3730680"/>
          </a:xfrm>
          <a:prstGeom prst="rect">
            <a:avLst/>
          </a:prstGeom>
          <a:ln w="0">
            <a:noFill/>
          </a:ln>
        </p:spPr>
      </p:pic>
      <p:sp>
        <p:nvSpPr>
          <p:cNvPr id="59" name="Rettangolo 4"/>
          <p:cNvSpPr/>
          <p:nvPr/>
        </p:nvSpPr>
        <p:spPr>
          <a:xfrm>
            <a:off x="3708360" y="234936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vate ad appoggiare un orologio all'estremità di un tavolo di legno e avvicinando l'orecchio all'altra estremità potrete sentire il suo  ticchettio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mergendo l'estremità di uno stetoscopio in un lavandino pieno d'acqua si può udire un suono prodotto nell'ac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ttangolo 3" descr=""/>
          <p:cNvPicPr/>
          <p:nvPr/>
        </p:nvPicPr>
        <p:blipFill>
          <a:blip r:embed="rId1"/>
          <a:stretch/>
        </p:blipFill>
        <p:spPr>
          <a:xfrm>
            <a:off x="907920" y="-165240"/>
            <a:ext cx="446904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offidani.com/assets/images/stetoscopio_g.jpg"/>
          <p:cNvPicPr/>
          <p:nvPr/>
        </p:nvPicPr>
        <p:blipFill>
          <a:blip r:embed="rId2"/>
          <a:stretch/>
        </p:blipFill>
        <p:spPr>
          <a:xfrm>
            <a:off x="2195640" y="3789360"/>
            <a:ext cx="3744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disegni.calshop.biz/disegni/vari/sveglia.gif"/>
          <p:cNvPicPr/>
          <p:nvPr/>
        </p:nvPicPr>
        <p:blipFill>
          <a:blip r:embed="rId1"/>
          <a:stretch/>
        </p:blipFill>
        <p:spPr>
          <a:xfrm rot="970800">
            <a:off x="5200560" y="2674440"/>
            <a:ext cx="3486240" cy="377208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3"/>
          <p:cNvSpPr/>
          <p:nvPr/>
        </p:nvSpPr>
        <p:spPr>
          <a:xfrm>
            <a:off x="250920" y="105264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vece facendo trillare una sveglia posta sotto una campana di vetro da cui è stata tolta l'aria (accendendovi un fiammifero dentro),nessun suono giunge all'esterno: 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 suono non si propaga attraverso il vuot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3:38:36Z</dcterms:created>
  <dc:creator>Sara</dc:creator>
  <dc:description/>
  <dc:language>en-US</dc:language>
  <cp:lastModifiedBy>Laura Polenta</cp:lastModifiedBy>
  <dcterms:modified xsi:type="dcterms:W3CDTF">2011-05-10T13:24:58Z</dcterms:modified>
  <cp:revision>11</cp:revision>
  <dc:subject/>
  <dc:title>Diapositiva 1</dc:title>
</cp:coreProperties>
</file>